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37F0-1D7E-4925-9826-1BE66ECCF1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A4306-61A1-458A-BAF6-B5E734884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458F5-42E5-4ECB-B345-BBC74ABB7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5500A-E3F8-4515-8E0E-5141B4E5C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F800D-D194-412C-AC7D-AFB2096B95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CF9CA-3E28-42CB-AC96-26D4F3624D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3FDC9-1858-4DCE-B05E-9CECB5AFB0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BAE5D-24A2-465C-92EC-37A6FF4C99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AAE5A-F0D7-40A8-A05E-0EDB5BD5A2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77573-9B98-447F-AB6A-0DEBC274095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740B6-6B1A-46B6-BBD7-4F7FF006A3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C8051-326D-4DC3-B19C-AFB3363797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3F4DB-00C5-46DB-9405-FC09765B1F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1365F-8242-4E29-A865-531815C2BE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CF506-2064-4D1F-8F4B-6AE2A3B5CE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C2EDA-F81F-4FB2-B103-E5652E0F5D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042C1-2305-4D7C-B72A-C6B66E81A2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EC18-11B3-4A43-AFE9-E10B6098F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10ACC-8848-41B2-A0B0-5BFA23B439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2733-973C-406A-BC25-5DFA11DB3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D505F-8233-4216-8C3C-AADA0F064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9114-8E6D-41D3-BA5F-D623CE4C6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02E2D-145E-4090-A7C6-DA0FAE0EA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5E71B-ADAA-43BB-ADB4-6CEB6B5E2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4967EC2-57A4-4715-B71D-51F69414B1C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287CDD7-1C65-4E6F-83CC-1A6C0C5552E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044CE76-D90A-48AC-AF9E-F1444309BB7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39DCD9E5-5BA9-450F-BCCA-905DB83EEF9E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SPSS MANOV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RS (Least Angle regression) available in R is another alternative to stepwise choosing the most parsimonious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sso and Ridge Regression can reduce collinear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5-10-12T10:39:13Z</dcterms:modified>
  <cp:revision>309</cp:revision>
  <dc:subject/>
  <dc:title>REGRESSION ANALYSIS</dc:title>
</cp:coreProperties>
</file>